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F908-BDD7-4763-8524-61A4F74B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4696-A93C-4FA1-8F23-7A27BC0A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BFA5-F489-44CD-8BF9-8BF58FF7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C35C-6491-4244-B367-BB7C20F3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97A4-E17D-42CD-9DD6-59F46581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3A99-ACF4-4BBD-930A-69F8A7E9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39FC-9C4B-4775-8373-CAAA6242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229B-662C-44F3-8A18-462A103C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784-7336-403C-9F17-86FFE0E4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498E-A121-4CFD-99FA-19B5905D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D1AC-5DAF-47F2-99F9-4DD64B0D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C733-7B1E-484A-B426-0D041B3E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6BCE-3EE1-4BAA-98E8-1A8AB881F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14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2492280"/>
            <a:ext cx="583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АР - КОНДИТЕ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9720"/>
            <a:ext cx="9144000" cy="5576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98400"/>
            <a:ext cx="9144000" cy="545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0"/>
            <a:ext cx="8686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69720"/>
            <a:ext cx="9144000" cy="611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806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120" y="0"/>
            <a:ext cx="8859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53920"/>
            <a:ext cx="9144000" cy="514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90520"/>
            <a:ext cx="9144000" cy="447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4600" y="0"/>
            <a:ext cx="8793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80" y="0"/>
            <a:ext cx="9023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44720"/>
            <a:ext cx="9144000" cy="47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30320" y="0"/>
            <a:ext cx="7081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9120"/>
            <a:ext cx="9144000" cy="581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" y="0"/>
            <a:ext cx="9077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6760"/>
            <a:ext cx="9144000" cy="6324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специалист, умеющий изготавливать кондитерские изделия и дес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6040"/>
            <a:ext cx="9144000" cy="596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65200"/>
            <a:ext cx="9144000" cy="392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5240"/>
            <a:ext cx="9144000" cy="65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03440"/>
            <a:ext cx="9144000" cy="544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1557360"/>
            <a:ext cx="3475080" cy="515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0920" y="836640"/>
            <a:ext cx="59770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одводим 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фессионально-важные каче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жен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юбить готов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хорошая памя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том числе вкусовая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нкий вкус и обоня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а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ординация движ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а уровне рук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лазомер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спроизводящее воображение (способность, глядя на рецепт, представить внешний вид и вкус блюд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ес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дитеру нуж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изическая вынослив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поточном производстве приходится работать в высоком темпе, а если на производстве нет автоматизации, это означает большие физические нагру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ицинские противопоказ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зни опорно-двигательного аппарата, сердечнососудистой системы,  аллергии на пищевые продукты, хронические заболевания органов пищеварения, органов дыхания, органов зрения, кожи с локализацией на кистях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солютно недопустимы инфекционные и нервны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914400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9144000" cy="514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0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ПРОФЕССИОНАЛЬНАЯ ПРО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628640"/>
            <a:ext cx="7199280" cy="421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8900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Трайф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диционный английский десер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еводе с английского - «Мелочь», «Пустяч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Правила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началом работ надеть форму, перча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ление десерта описано в технологической карте. Соблюдайте технологию пригот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 о правилах безопасной работы с ножом и электрическим микс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иготовления 15 мину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844640"/>
            <a:ext cx="4537080" cy="453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6028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«Кофе-брей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260280"/>
            <a:ext cx="40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«Фруктовый (ягодный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62480" y="1844640"/>
            <a:ext cx="3608640" cy="4510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РЕЦЕП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765000"/>
          <a:ext cx="8229600" cy="4926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«Кофе-брей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«Фруктовый (ягодный)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холодным коф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ягодным сироп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– сироп (варенье из яго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бан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фрукты или я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,7,8 слои повторяют 1,2,3,4 сл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лой –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9T19:14:04Z</dcterms:created>
  <dc:creator>Александр</dc:creator>
  <dc:description/>
  <dc:language>en-US</dc:language>
  <cp:lastModifiedBy>Александр</cp:lastModifiedBy>
  <dcterms:modified xsi:type="dcterms:W3CDTF">2017-12-21T02:47:06Z</dcterms:modified>
  <cp:revision>4</cp:revision>
  <dc:subject/>
  <dc:title>Слайд 1</dc:title>
</cp:coreProperties>
</file>